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E310-8D26-4B97-A174-89686DB66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1E7B-8E2D-445B-8272-2C4358C44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6B4B-9A9B-4A29-B390-5AF74FFA9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4842-11C3-46A2-8223-C17393637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34406-C962-4480-BC71-C100BBF3E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00F8C-8CB7-4BC5-8F9C-3F1FD015B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A00FC-FAA5-4D38-B7D0-33CE32706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56E44-DFC6-4DA5-A729-A89E1A6F2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0F107-DFAE-4510-8617-47F287240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4D1AA-510D-4481-8854-D6459BC57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859D2-2B69-4830-99A4-E45FE437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0D9F-A26C-48FC-BBF4-38FDB83EF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78A41-B9AE-4548-AEA3-D414E930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3F664-5095-427A-827C-67225FF6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ED61F-2A74-457A-B56E-E8DC52482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148EC-D16D-4F73-9662-A9FDDB0E4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411D9-F208-4642-811E-1BCF7463C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7060-B3F1-4D1D-88F1-A6BD1A85A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2306-C9D7-48B8-8901-D3D573823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197F-43E2-43F6-8E3B-E39E59D6D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4C88-7DE4-4537-8906-4E026672C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A4EE-7996-4EC9-B1C0-CAB7A6DD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167F-F440-4AAA-80DF-062AA52D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3939-0EB5-431B-9F1E-22154988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cap="rnd" w="936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46858-6D55-412B-808A-45CF70D2B5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2f5e76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cap="rnd"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E54E8-CC68-4F96-998D-FC1A88AF65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0" y="5057640"/>
            <a:ext cx="1800360" cy="18003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280" y="2708280"/>
            <a:ext cx="8458200" cy="16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MUNKAHELYI  EGÉSZSÉGVÉDELMI ÉS BIZTONSÁGI IRÁNYÍTÁSI RENDSZER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MEBIR) SZABVÁNY ISMERTET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797960" y="404640"/>
            <a:ext cx="1049040" cy="1511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910880" y="549360"/>
            <a:ext cx="499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omárom Város Önkormányzat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ÁROP 1.A.2/A-2008-00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26560" y="981000"/>
            <a:ext cx="81010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Gondoskodni kell az erőforrásokról a rendszer bevezetéséhez és fenntartásához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A vezetőség egy tagjának kinevezé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Feladatai, jogosultsága, felelőssé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rögzíté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Jelentés készítési kötelezettsé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.4. BEVEZETÉS ÉS MŰKÖD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8459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4d4d4d"/>
                </a:solidFill>
                <a:uFillTx/>
                <a:latin typeface="Times New Roman"/>
              </a:rPr>
              <a:t>4.4.2. Képzés, tudatosság, </a:t>
            </a:r>
            <a:br>
              <a:rPr sz="4000"/>
            </a:br>
            <a:r>
              <a:rPr b="1" lang="en-US" sz="4000" spc="-1" strike="noStrike">
                <a:solidFill>
                  <a:srgbClr val="4d4d4d"/>
                </a:solidFill>
                <a:latin typeface="Times New Roman"/>
              </a:rPr>
              <a:t>          </a:t>
            </a:r>
            <a:r>
              <a:rPr b="1" lang="en-US" sz="4000" spc="-1" strike="noStrike" u="sng">
                <a:solidFill>
                  <a:srgbClr val="4d4d4d"/>
                </a:solidFill>
                <a:uFillTx/>
                <a:latin typeface="Times New Roman"/>
              </a:rPr>
              <a:t>felkészültség</a:t>
            </a: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-6480"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Oktatás megtervezésé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-6480"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Tudatosság kialakítá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-6480"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Megfelelő felkészültség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hozott intézkedése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5640" y="148428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.4. BEVEZETÉS ÉS MŰKÖD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8459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4d4d4d"/>
                </a:solidFill>
                <a:uFillTx/>
                <a:latin typeface="Times New Roman"/>
              </a:rPr>
              <a:t>4.4.3. Tanácskozás és kommunikáció</a:t>
            </a: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Eljárás bevezetése a MEB információk  munkavállalók és az érdekelt felek felé történő eljuttatására, a munkavállalók bevonása a szabályozások kialakításáb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5640" y="148428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.4. BEVEZETÉS ÉS MŰKÖD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8459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4d4d4d"/>
                </a:solidFill>
                <a:uFillTx/>
                <a:latin typeface="Times New Roman"/>
              </a:rPr>
              <a:t>4.4.4. Dokumentáció</a:t>
            </a: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A MEBIR elemei - politika, célok, szabályozások, feljegyzések - kölcsön-hatásainak, valamint a kapcsolódó dokumentációnak a meghatározása. </a:t>
            </a:r>
            <a:br>
              <a:rPr sz="3600"/>
            </a:b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A dokumentáció tárolható bármilyen alakú</a:t>
            </a:r>
            <a:br>
              <a:rPr sz="3600"/>
            </a:b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   vagy típusú adathordozó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55640" y="148428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.4. BEVEZETÉS ÉS MŰKÖD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8459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4d4d4d"/>
                </a:solidFill>
                <a:uFillTx/>
                <a:latin typeface="Times New Roman"/>
              </a:rPr>
              <a:t>4.4.5. A dokumentumok és adatok</a:t>
            </a:r>
            <a:br>
              <a:rPr sz="4000"/>
            </a:br>
            <a:r>
              <a:rPr b="1" lang="en-US" sz="4000" spc="-1" strike="noStrike">
                <a:solidFill>
                  <a:srgbClr val="4d4d4d"/>
                </a:solidFill>
                <a:latin typeface="Times New Roman"/>
              </a:rPr>
              <a:t>          </a:t>
            </a:r>
            <a:r>
              <a:rPr b="1" lang="en-US" sz="4000" spc="-1" strike="noStrike" u="sng">
                <a:solidFill>
                  <a:srgbClr val="4d4d4d"/>
                </a:solidFill>
                <a:uFillTx/>
                <a:latin typeface="Times New Roman"/>
              </a:rPr>
              <a:t>kezelése</a:t>
            </a: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A környezetközpontú  irányítási rendszer számára szükséges dokumentumokat ellenőrzés alatt kell tartan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55640" y="148428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.4. BEVEZETÉS ÉS MŰKÖD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8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4d4d4d"/>
                </a:solidFill>
                <a:uFillTx/>
                <a:latin typeface="Times New Roman"/>
              </a:rPr>
              <a:t>4.4.6. A működés szabályozás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Azonosítani és szabályozni kell a veszélyekkel kapcsolatos műveleteket, tevékenységeket, összhangban a politikával és a célokkal. Ezeknek ki kell terjednie a munkahelyekre, a folyamatokra, a berendezésekre, gépekre,  a karbantartásra és 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munkaszervezés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.4. BEVEZETÉS ÉS MŰKÖD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0872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4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4d4d4d"/>
                </a:solidFill>
                <a:uFillTx/>
                <a:latin typeface="Times New Roman"/>
              </a:rPr>
              <a:t>4.4.7. Felkészülés és reagálás</a:t>
            </a:r>
            <a:br>
              <a:rPr sz="4000"/>
            </a:br>
            <a:r>
              <a:rPr b="1" lang="en-US" sz="4000" spc="-1" strike="noStrike">
                <a:solidFill>
                  <a:srgbClr val="4d4d4d"/>
                </a:solidFill>
                <a:latin typeface="Times New Roman"/>
              </a:rPr>
              <a:t>          </a:t>
            </a:r>
            <a:r>
              <a:rPr b="1" lang="en-US" sz="4000" spc="-1" strike="noStrike" u="sng">
                <a:solidFill>
                  <a:srgbClr val="4d4d4d"/>
                </a:solidFill>
                <a:uFillTx/>
                <a:latin typeface="Times New Roman"/>
              </a:rPr>
              <a:t>vészhelyzetek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Eljárás kialakítása a lehetséges események és vészhelyzetek meghatározására, felismerésére, a reagálási tevékenységre, valamint a lehetséges egészségkárosodás és sérülés megelőzésére és enyhítésére. Értékelni kell az eseményeket, vészhelyzeteket bekövetkezésük után.</a:t>
            </a: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.5. 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LENŐRZÉS É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ELYESBÍTÉ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4360" y="1828800"/>
            <a:ext cx="820872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 u="sng">
                <a:solidFill>
                  <a:srgbClr val="4d4d4d"/>
                </a:solidFill>
                <a:uFillTx/>
                <a:latin typeface="Times New Roman"/>
              </a:rPr>
              <a:t>4.5.1. Figyelemmel kísérés és </a:t>
            </a:r>
            <a:br>
              <a:rPr sz="4000"/>
            </a:br>
            <a:r>
              <a:rPr b="1" lang="hu-HU" sz="4000" spc="-1" strike="noStrike">
                <a:solidFill>
                  <a:srgbClr val="4d4d4d"/>
                </a:solidFill>
                <a:latin typeface="Times New Roman"/>
              </a:rPr>
              <a:t>          </a:t>
            </a:r>
            <a:r>
              <a:rPr b="1" lang="hu-HU" sz="4000" spc="-1" strike="noStrike" u="sng">
                <a:solidFill>
                  <a:srgbClr val="4d4d4d"/>
                </a:solidFill>
                <a:uFillTx/>
                <a:latin typeface="Times New Roman"/>
              </a:rPr>
              <a:t>méré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Eljárás kialakítása a MEB működése eredményességének figyelemmel kísérésére és mérésére, valamint a jogszabályi követelmények betartására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A szükséges mérőeszközöknek kalib-</a:t>
            </a:r>
            <a:br>
              <a:rPr sz="3600"/>
            </a:b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ráltnak kell lenniü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.5. 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LENŐRZÉS É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ELYESBÍTÉ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 u="sng">
                <a:solidFill>
                  <a:srgbClr val="4d4d4d"/>
                </a:solidFill>
                <a:uFillTx/>
                <a:latin typeface="Times New Roman"/>
              </a:rPr>
              <a:t>4.5.2. Balesetek, események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4d4d4d"/>
                </a:solidFill>
                <a:latin typeface="Times New Roman"/>
              </a:rPr>
              <a:t>          </a:t>
            </a:r>
            <a:r>
              <a:rPr b="1" lang="hu-HU" sz="4000" spc="-1" strike="noStrike" u="sng">
                <a:solidFill>
                  <a:srgbClr val="4d4d4d"/>
                </a:solidFill>
                <a:uFillTx/>
                <a:latin typeface="Times New Roman"/>
              </a:rPr>
              <a:t>nemmegfelelőségek,</a:t>
            </a:r>
            <a:br>
              <a:rPr sz="4000"/>
            </a:br>
            <a:r>
              <a:rPr b="1" lang="hu-HU" sz="4000" spc="-1" strike="noStrike">
                <a:solidFill>
                  <a:srgbClr val="4d4d4d"/>
                </a:solidFill>
                <a:latin typeface="Times New Roman"/>
              </a:rPr>
              <a:t>          </a:t>
            </a:r>
            <a:r>
              <a:rPr b="1" lang="hu-HU" sz="4000" spc="-1" strike="noStrike" u="sng">
                <a:solidFill>
                  <a:srgbClr val="4d4d4d"/>
                </a:solidFill>
                <a:uFillTx/>
                <a:latin typeface="Times New Roman"/>
              </a:rPr>
              <a:t>helyesbítés és megelőzé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Eljárá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7920">
              <a:lnSpc>
                <a:spcPct val="9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a balesetek, események kezelésére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7920">
              <a:lnSpc>
                <a:spcPct val="9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az okok vizsgálatára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7920">
              <a:lnSpc>
                <a:spcPct val="9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a következmények enyhítésére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7920">
              <a:lnSpc>
                <a:spcPct val="9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a helyesbítés és megelőzés kezdemé-</a:t>
            </a:r>
            <a:br>
              <a:rPr sz="3600"/>
            </a:b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     nyezésére, arányban a MEB kockázatt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" y="14130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.5. 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LENŐRZÉS É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ELYESBÍTÉ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1760" y="1773360"/>
            <a:ext cx="838188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 u="sng">
                <a:solidFill>
                  <a:srgbClr val="4d4d4d"/>
                </a:solidFill>
                <a:uFillTx/>
                <a:latin typeface="Times New Roman"/>
              </a:rPr>
              <a:t>4.5.3. Feljegyzése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Feljegyzéseket kell készíteni és ezeket meg kell őrizni, hogy bizonyítékul szolgáljanak a MEBIR  megfelelőségére, eredményes működésére. A feljegyzéseknek igazolni kell a képzést,  az auditokat és az átvizsgálásoka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.1. ÁLTALÁNOS KÖVETELMÉNY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0560" y="1752120"/>
            <a:ext cx="8497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A szervezetnek létre kell hoznia, és fenn kell tartania egy környezetközpontú irányítási rendszert, az </a:t>
            </a:r>
            <a:br>
              <a:rPr sz="3600"/>
            </a:b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MSZ 28001:2003 szabvány követelményeinek megfelelő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.5. 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LENŐRZÉS É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ELYESBÍTÉ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49636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4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 u="sng">
                <a:solidFill>
                  <a:srgbClr val="4d4d4d"/>
                </a:solidFill>
                <a:uFillTx/>
                <a:latin typeface="Times New Roman"/>
              </a:rPr>
              <a:t>4.5.4. Aud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Tervezett, rendszeres és átfogó aud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7560">
              <a:lnSpc>
                <a:spcPct val="9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a rendszer-követelmények teljesülésének értékelésére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7560">
              <a:lnSpc>
                <a:spcPct val="9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a bevezetés, fenntartás ellenőrzésére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7560">
              <a:lnSpc>
                <a:spcPct val="9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az eredményesség értékelésé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A vezetés részére információt kell adni az</a:t>
            </a:r>
            <a:br>
              <a:rPr sz="3600"/>
            </a:b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   audit eredményérő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.6. VEZETŐSÉGI ÁTVIZSGÁL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8202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Rendszerértékelés a folyamatos javulás érdekében. Figyelembe veszi az auditok, az ellenőrzések, a helyesbítő, megelőző intézkedések, az érdekelt felek visszajelzéseinek tapasztalatait. Vizsgálja a politika megfelelőségét, a célok teljesülését, meghatározza a fejlesztési feladatoka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Az átvizsgálást dokumentálni kel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55640" y="299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KÖSZÖNÖM MEGTISZTELŐ FIGYELMÜKE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.2. MEB POLIT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000" y="1988640"/>
            <a:ext cx="84596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Alkalmassá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447840"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Megfelelé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447840"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Elkötelezettsé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447840"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Közvetítés a munkavállalók fel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447840"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Hozzáférhetősé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447840"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Fejleszté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295280" y="549000"/>
            <a:ext cx="78487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Alkalmas munkahelyi és egyészség-védelmi politika megfogalmazása, rögzítése, közvetítése a munkavállalók  felé és hozzáférés biztosítása a nyilvánosság számá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A politika legyen összhangban a szervezet és az érdekelt felek igényeiv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Tartalmazza a szervezet egészére kiterjedő elkötelezettséget az egészség védelmére, a biztonságra, a jogszabályok betartásá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.3. TERVEZ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341000"/>
            <a:ext cx="8740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4d4d4d"/>
                </a:solidFill>
                <a:uFillTx/>
                <a:latin typeface="Times New Roman"/>
              </a:rPr>
              <a:t>4.3.1. Veszélyazonosítás, kockázat-értékelés és a kockázat kézben tartásának tervezése</a:t>
            </a: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Eljárás készítés a veszélyek folyamatos felismerésére, a kockázatok értékelésé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és a szükséges kézbentartási intézkedések bevezetésé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55640" y="11970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.3. TERVEZ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341000"/>
            <a:ext cx="8740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4d4d4d"/>
                </a:solidFill>
                <a:uFillTx/>
                <a:latin typeface="Times New Roman"/>
              </a:rPr>
              <a:t>4.3.2. Jogi és egyéb követelménye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-6480"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Elemzés </a:t>
            </a: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 Követé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Eljárás a környezeti tényezőkre vonatkozó jogszabályok megismerésére, folyamatos figyelésére, a munkavállalók és az érdekelt felek tájékoztatásár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55640" y="11970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.3. TERVEZ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00000" y="1412640"/>
            <a:ext cx="8460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 u="sng">
                <a:solidFill>
                  <a:srgbClr val="4d4d4d"/>
                </a:solidFill>
                <a:uFillTx/>
                <a:latin typeface="Times New Roman"/>
              </a:rPr>
              <a:t>4.3.3. Célo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-6480"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Meghatározása</a:t>
            </a: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	</a:t>
            </a: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 Méré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Célok rögzítése a jogszabályi követelmé-nyek,  a veszélyek és a kockázatok, </a:t>
            </a:r>
            <a:br>
              <a:rPr sz="3600"/>
            </a:b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érdekelt felek elvárásainak figyelembe vételével, összhangban a MEB politikáv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55640" y="11970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.3. TERVEZ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000" y="1218960"/>
            <a:ext cx="8459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4d4d4d"/>
                </a:solidFill>
                <a:uFillTx/>
                <a:latin typeface="Times New Roman"/>
              </a:rPr>
              <a:t>4.3.4. MEB irányítási programo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-6480"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Felelősségek</a:t>
            </a: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 Eszközök, határid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A programok készítése és rögzítése a célok és előirányzatok elérésé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5640" y="11970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.4. BEVEZETÉS ÉS MŰKÖD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8459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4d4d4d"/>
                </a:solidFill>
                <a:uFillTx/>
                <a:latin typeface="Times New Roman"/>
              </a:rPr>
              <a:t>4.4.1. Szervezeti felépítés és felelőssé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-6480"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Meghatározása</a:t>
            </a: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 Ismerteté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Szabályozni kell az érintett személyek feladatait, felelősségét, az egymás közötti függőségeket, kapcsolatokat és ezt az érintettek tudomására kell hozni.</a:t>
            </a: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55640" y="148428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0T11:17:29Z</dcterms:created>
  <dc:creator>Gizus</dc:creator>
  <dc:description/>
  <dc:language>en-US</dc:language>
  <cp:lastModifiedBy>Gizella</cp:lastModifiedBy>
  <dcterms:modified xsi:type="dcterms:W3CDTF">2010-08-23T07:40:29Z</dcterms:modified>
  <cp:revision>90</cp:revision>
  <dc:subject/>
  <dc:title>A KÖZPONTI TEAM FELADATAI</dc:title>
</cp:coreProperties>
</file>