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83A0-FE75-480D-A858-D51C099E0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3943-285D-490F-81F6-EF6C546D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4B98-31A9-4AD7-B3BE-C95BBA477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6A91-066E-4657-A8A7-E0F6CA360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3BE7-9D8C-48E7-88AD-24FFFBCF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16DE-9A7E-4292-8E9A-CF733355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4D9A-D560-46F0-8BDB-41E52D3B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F5D2-3FBA-443B-9B01-17A5C090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F503-DD99-4375-B927-CF6232A0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60E1-8C9A-4C42-8504-DF5DAD9D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DEBA-1378-4287-9A50-12B62D38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8982-71A9-4288-9D86-CD0DA6B7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4219-6B45-4637-9623-E8D0DC6BE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659640" y="5734080"/>
            <a:ext cx="2195280" cy="87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1600"/>
            </a:b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Komárom Város Önkormányzat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ÁROP 1.A.2/A-2008-0077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ÁJÉKOZTATÓ AZ ESÉLYEGYENLŐSÉGI SZEMPONTOK ÉRVÉNYESÍTÉSÉRŐ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6093000"/>
            <a:ext cx="2303280" cy="615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627280" y="6093000"/>
            <a:ext cx="403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A projekt az Európai Unió támogatásával, az Európai Szociális Alap társfinanszírozásával valósul m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5950080"/>
            <a:ext cx="626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020000" y="549360"/>
            <a:ext cx="10508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2852640"/>
            <a:ext cx="82915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élcsoport és esélyegyenlőségi terüle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Az esélyegyenlőség célcsoportj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aramond"/>
              </a:rPr>
              <a:t>Vele született vagy általuk nem befolyásolható tulajdonsága miatt a társadalomban hátrányba kerülő emberek és csoportja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aramond"/>
              </a:rPr>
              <a:t>Nem (sex – gen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aramond"/>
              </a:rPr>
              <a:t>Faji hovatartozás, bőrszín, nemzetiség, nemzeti vagy etnikai, vallási kisebbséghez tartozá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aramond"/>
              </a:rPr>
              <a:t>Fogyatékossá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aramond"/>
              </a:rPr>
              <a:t>Szexuális irányultság, nemi identi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aramond"/>
              </a:rPr>
              <a:t>Életkor, családi állapot, társadalmi származás, vagyoni helyzet, világnézeti meggyőződés, politikai vagy más vélemé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Esélyegyenlőségi terüle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16800" indent="-316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zok a területek melyek hozzájárulhatnak az esélyegyenlőségi célcsoportok hazai helyzetének javulásáho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saládbarát munkahelyi körülmények megteremtése, erősíté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emek (férfiak és nők) közötti esélykülönbségek csökkenté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z akadálymentesítés előrehalad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ogyatékkal élők életminőségének és munkapiaci esélyeinek javí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omák életminőségének és munkapiaci esélyeinek javí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ás hátrányos helyzetű csoportok munkapiaci és társadalmi esélyeinek javítá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6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2852280"/>
            <a:ext cx="8291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Irányelvek, jogszabály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4800" indent="-3348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z Európai Unió Tanácsa 2000-ben két nagyjelentőségű irányelvet (Faji Irányelv és Foglalkoztatási Irányelv) is elfogadott a diszkrimináció visszaszorítására, melyek hazai jogrendszerbe illesztésének az Unióhoz való csatlakozásig meg kellett történnie. A törvény elfogadásával ezen kívül még hat irányelv – többségükben a nők és a férfiak egyenlő bánásmódban részesítésének követelményét tartalmazó – átültetése történt m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2000/43/EK irányelv a személyek közötti, faji vagy etnikai származásra való tekintet nélküli egyenlő bánásmód elvének végrehajtásáró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2000/78/EK  irányelv a  foglalkoztatási  és  munkahelyi  egyenlő bánásmód általános kereteinek végrehajtásáró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424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2003. évi CXXV. Törvény az egyenlő bánásmódról és az esélyegyenlőség előmozdításáról (Ebktv.)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: önkormányzatokra is kiterjesztett törvény, az 50 munkavállalónál több személyt foglalkoztató költségvetési szervekre vonatkozóan esélyegyenlőségi program kidolgozását, elfogadását írja el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Magyar Köztársaság 2010. évi költségvetését megalapozó egyes törvények módosításáról szóló 2009. évi CIX. Törvény  (Tv.) kiegészítette az Ebktv-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4960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49200" indent="-349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Tv. kötelezővé teszi a helyi önkormányzatok és többcélú kistérségi társulások számára az öt évre szóló helyi esélyegyenlőségi program elfogadás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program hiányában az önkormányzat, többcélú kistérségi társulás egyes pályázati forrásokból nem részesülh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leghátrányosabb helyzetű kistérségekben lévő, valamint 20.000 lakos feletti települések esetében 2010. július 1-től, egyéb települések esetében 2011. január 1-től kell alkalmazni a helyi esélyegyenlőségi program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120/2010. (IV.16.) Kormány rendelet a helyi esélyegyenlőségi program elkészítésének szempontjairól (Hepr.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2852280"/>
            <a:ext cx="8291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ÁROP szempontok teljesül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915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saládbarát munkahelyi körülmények megteremtése, erősít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914120"/>
            <a:ext cx="8496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887040" indent="-41148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A megkülönböztetés tilalma, egyenlő bánásmó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7040" indent="-41148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esélyegyenlőségi munkatárs, felelős alkalmaz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7040" indent="-41148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esélyegyenlőségi terv, koncepció meglé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7040" indent="-41148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az esélyegyenlőségi célcsoportot, vagy annak képviselőjét bevonja a projekt tervezésé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7040" indent="-41148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GYES-ről, GYEd-ről, ápolási díjról visszatérők alkalmazása az elmúlt, ill. következő 5 év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7040" indent="-41148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Rugalmas munkaidő szervezés, vagy csúsztatható munkakezdés lehetősé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7040" indent="-41148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Munkaidő- kedvezmény biztosítása a dolgozók továbbképzéséh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7040" indent="-41148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GYES-en, GYED-en lévő munkatársakkal való szervezett kapcsolattart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7040" indent="-41148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Megvalósítás során eszközöket alkalmaz a célcsoport érdekeinek figyelembe vételére, védelmére</a:t>
            </a: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950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emek közötti esélykülönbségek csökkent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771560"/>
            <a:ext cx="84960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esélyegyenlőségi munkatárs, felelős alkalma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esélyegyenlőségi terv, koncepció meglé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z esélyegyenlőségi célcsoportot, vagy annak képviselőjét bevonja a projekt tervezésé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GYES-ről, GYED-ről, ápolási díjról visszatérők alkalmazása az elmúlt, ill. következő 5 év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GYES-en, GYED-en lévő munkatársakkal való szervezett kapcsolattar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Megvalósítás során eszközöket alkalmaz a célcsoport érdekeinek figyelembe vételére, védelmére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829152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„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Minden hátrányos megkülönböztetés sérti az emberi méltóságot, de nem minden emberi méltóságot sértő magatartás jelenti az egyenlő bánásmód sérelmét.”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(Dr. Demeter Jud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379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kadálymentesítés előrehalad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2131560"/>
            <a:ext cx="84960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sélyegyenlőségi munkatárs, felelős alkalma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szervezet döntéshozói, munkavállalói vagy közönsége számára évente esélyegyenlőségi képzést 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z esélyegyenlőségi célcsoportot, vagy annak képviselőjét bevonja a projekt tervezésé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fokommunikációs akadálymentesí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211400"/>
            <a:ext cx="8291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ás hátrányos helyzetű csoportok munkapiaci és társadalmi esélyeinek javít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4000" y="2490480"/>
            <a:ext cx="84960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sélyegyenlőségi munkatárs, felelős alkalma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sélyegyenlőségi terv, koncepció meglé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szervezet döntéshozói, munkavállalói vagy közönsége számára évente esélyegyenlőségi képzést 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539640" y="270792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KÖSZÖNÖM MEGTISZTELŐ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GYELMÜK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6093000"/>
            <a:ext cx="2303280" cy="615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627280" y="6165720"/>
            <a:ext cx="403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 projekt az Európai Unió támogatásával, az Európai Szociális Alap társfinanszírozásával valósul m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6021360"/>
            <a:ext cx="64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360" y="2852280"/>
            <a:ext cx="8291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Fogalm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659640" y="5734080"/>
            <a:ext cx="219528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Esélyegyenlőség = Egyenlő bánásmó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9152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z  egyenlő  bánásmód  és  az  esélyegyenlőség  fogalmát  gyakran  használják  szinonimaként,  ami  azt sugallja,  hogy  egy  és  ugyanazon  dologról  van  szó.  Az  egyenlő   bánásmód  elve(másként  a  diszkrimináció  tilalma)  és  az  esélyegyenlőségi  politika  ugyanannak  az  elvárásnak  két eltérő  filozófiájú megközelíté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z esélyegyenlőség érvényesítése többet, mást kíván  meg,  mint pusztán a diszkriminációmentes működés  biztosítása.  Az  esélyegyenlőség  alapja  a  diszkrimináció-mentesség.  Ezen  felül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két  terület tudja erősíteni az esélyegyenlőséget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1. saját szervezetén belü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2. az általa nyújtott szolgáltatás és más tevékenység sorá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Esélyegyenlőség = Egyenlő bánásmó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915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1. A szervezeten belül azzal tudja egy szervezet érvényesíteni az esélyegyenlőséget, ha figyel arra, hogy nagyobb esélyt kapjanak ezen célcsoportok a munkavállalásra és az el menetel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2. A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zolgáltatás nyújtása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orán arra kell törekedni, hogy a célcsoportok tagja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- minél nagyobb számban kapjanak információt szolgáltatásairó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- minél nagyobb számban részesüljenek a szolgáltatásaiból és más tevékenységébő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- versenyképességét,  helyzetét,  életkörülményeit  érdemben  javítsák  a  szervezetszolgáltatása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A diszkriminá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915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odern használatban olyan megkülönböztető bánásmód (cselekedet, tevékenység, kijelentés, elmulasztott tett, viselkedés), mely az egyén (személy) vagy a csoport esélyegyenlőségére hat. A hatása lehet negatív vagy pozitív, módszere pedig nyílt vagy burkol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Negatív diszkriminá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3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hátrányos megkülönbözteté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iszkrimináció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vagy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negatív diszkrimináció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ösztönös vagy tudatos kirekesztő, megalázó cselekedet. Indítéka lehet a fölérendeltség megszerzése vagy megtartása a csoporton belül vagy csoportok között. Az egyenlő bánásmód elvével ellentétes eljárás. Általa létrejön az esélyegyenlőtlenség, a gazdasági vagy társadalmi igazságtalanság. Ürügye a személy vagy csoport másiktól eltérő tulajdonságáról (másságáról) szerzett ismer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Pozitív diszkriminá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35344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soportra, személyre vonatkozó jogi, adminisztratív vagy egyéb segítséget jelent, melyre a csoport vagy személy valamilyen szempontból a többséghez képest hátrányos helyzete ad okot. Indítéka a domináns egyén vagy csoport együttérzése, megértés illetve a másik fél követelése vagy tiltakozása a gazdasági és társadalmi igazságtalanság ellen. Szándéka a szolidaritás, az embercsoportok közötti gazdasági vagy társadalmi igazságtalanság enyhítése, vagyis az esélyegyenlőség megteremtésre. A pozitív diszkrimináció bizonyos esetben korlátokat állít főleg a domináns és esetleg a hátrányos helyzetben lévőnek, mégis az esélyegyenlőséget vizsgálva igazságosabb. Például ilyen egy alulképviselt csoport tagjainak segítése, részesülése az arányosság elvén (kvótáva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A megkülönböztetés módsz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915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Nyílt: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mikor valakit az összehasonlítható helyzetben lévő többieknél, nyíltan kedvezőbben vagy kevésbé kedvezően kezelne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Burkolt: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kkor fordul elő, amikor egy látszólag semleges előírás, ismérv vagy gyakorlat kedvezőbb vagy kedvezőtlenebb helyzetbe hoz valak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0:16:45Z</dcterms:created>
  <dc:creator>cmrt</dc:creator>
  <dc:description/>
  <dc:language>en-US</dc:language>
  <cp:lastModifiedBy>Gizella</cp:lastModifiedBy>
  <dcterms:modified xsi:type="dcterms:W3CDTF">2010-08-23T11:29:51Z</dcterms:modified>
  <cp:revision>35</cp:revision>
  <dc:subject/>
  <dc:title>1. dia</dc:title>
</cp:coreProperties>
</file>