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39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A18A-B392-4E9B-A6A0-559EBFF429F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91B-0629-498A-81BA-4826C977A1D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gész Földet bejárt mottó jelentése, hogy legalább olyan minőségben vagyunk kötelesek továbbadni gyermekeinknek környezetünket, mint, ahogyan mi kapt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0702-F9E1-4972-9BED-9E98F695C59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be vesznek bennünket 4,6 milliárd év alatt kialakult, önmagukkal, és egymással rendkívül érzékeny egyensúlyban lévő ökoszisztémák, melyek feltételei annak, hogy lélegezhessünk, hogy táplálkozzunk, hogy szomjunkat olthassuk, egyszóval hogy éljünk. E környezeti elemek nélkül 1 percet sem tudnánk eltölteni é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C544-A172-4094-ABA3-0225F575C84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7DC6-52D8-4D49-8DE9-5748F33AC96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6CF-4948-4451-91F3-992B50C7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ADB-D79F-4BD7-A7F1-4E5C66D2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8D0-4F9B-4478-8AC5-AD7B2776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425-411F-40F9-9F2E-265387F2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FD30-EB97-42CF-8BBF-841A9BE2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1F6F-E1DA-42E0-9FC6-0E55DB6E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4303-4C50-4CC4-8D40-79121F4C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3A8A-5FDD-41F1-8358-0A640154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D63A-00C2-4847-AC52-9AD67F98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EA2-F4EC-4F5F-A5BE-47A15A4A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BE5E-17BA-4745-89CB-C939218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FC5-9459-4D27-B972-4885520C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3D73-21F6-41C5-AE6B-84F65DF5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2B35-5B35-4791-88A5-D22C2BB4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B831-AE35-4FFD-A4F9-E93554E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F114-B9C4-44AB-93EF-27654A88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0922-2BC9-461E-BACC-BD96AC72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978-C9DB-48B3-BCDB-18D7142C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ED9-3F5B-4314-8396-88FF4A8A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CFA-305C-486C-97F7-C0C7F6A1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85A-622B-4B3B-AE68-1800E6E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EFA-D0C5-46BB-BC04-CE92C3DA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EC7-00A3-4181-A710-7E9928A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F55-B2D5-43B8-A197-D0A36CC8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9F8B-0795-4007-9065-C77BB5DABF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308720" y="508464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916E-99B0-4DFB-95EB-88E1583275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10.1.1.2/default.aspx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isoterv.hu/isomikro.html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716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rnyezetvédelem Fenntartható Fejlőd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8160" y="1341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24720" y="119700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49080" y="587160"/>
            <a:ext cx="82422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FENNTARTHATÓ FOGYASZ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6920" y="1718640"/>
            <a:ext cx="795996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eorgia"/>
              </a:rPr>
              <a:t>Tudatos vásár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pénzeddel szavazol! Te döntesz mit veszel meg és mit n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szemét a legdrágább, ne vedd meg. Felesleges termék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Helyi, idényjellegű termékeket vegyé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Mennyi műanyagot viszel haza? Válaszd az egyszerűen csomagolt áru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Olvasd el a címkéket! Mit hol, és hogyan gyártott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Tartós használat! Kerüld az eldobható dolgo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20360" y="728280"/>
            <a:ext cx="7787520" cy="66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ENERGIATAKARÉKOS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85520" y="19998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ű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ízhaszn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ilág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file"/>
          <p:cNvPicPr/>
          <p:nvPr/>
        </p:nvPicPr>
        <p:blipFill>
          <a:blip r:embed="rId1"/>
          <a:stretch/>
        </p:blipFill>
        <p:spPr>
          <a:xfrm>
            <a:off x="485928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izzo"/>
          <p:cNvPicPr/>
          <p:nvPr/>
        </p:nvPicPr>
        <p:blipFill>
          <a:blip r:embed="rId2"/>
          <a:stretch/>
        </p:blipFill>
        <p:spPr>
          <a:xfrm>
            <a:off x="2843280" y="17733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547_gaz_1_k"/>
          <p:cNvPicPr/>
          <p:nvPr/>
        </p:nvPicPr>
        <p:blipFill>
          <a:blip r:embed="rId3"/>
          <a:stretch/>
        </p:blipFill>
        <p:spPr>
          <a:xfrm>
            <a:off x="2843280" y="3933720"/>
            <a:ext cx="2160360" cy="161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8"/>
          <p:cNvPicPr/>
          <p:nvPr/>
        </p:nvPicPr>
        <p:blipFill>
          <a:blip r:embed="rId4"/>
          <a:stretch/>
        </p:blipFill>
        <p:spPr>
          <a:xfrm>
            <a:off x="5076720" y="39337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2"/>
          <p:cNvSpPr/>
          <p:nvPr/>
        </p:nvSpPr>
        <p:spPr>
          <a:xfrm>
            <a:off x="2987640" y="3933720"/>
            <a:ext cx="180036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5" descr="50_liter_utc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149720"/>
            <a:ext cx="1819080" cy="2497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98400" y="34128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SZELEKTÍV GYŰJTÉS, ÚJRAHASZNOSÍ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5" descr="papir"/>
          <p:cNvPicPr/>
          <p:nvPr/>
        </p:nvPicPr>
        <p:blipFill>
          <a:blip r:embed="rId3"/>
          <a:stretch/>
        </p:blipFill>
        <p:spPr>
          <a:xfrm>
            <a:off x="714240" y="17859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muanyaghulladek"/>
          <p:cNvPicPr/>
          <p:nvPr/>
        </p:nvPicPr>
        <p:blipFill>
          <a:blip r:embed="rId4"/>
          <a:stretch/>
        </p:blipFill>
        <p:spPr>
          <a:xfrm>
            <a:off x="3203640" y="184464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785880" y="1428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p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571920" y="33577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űany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57880" y="37148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zelektív hulladékgyűjtés, komposztál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escn0601_400"/>
          <p:cNvPicPr/>
          <p:nvPr/>
        </p:nvPicPr>
        <p:blipFill>
          <a:blip r:embed="rId5"/>
          <a:stretch/>
        </p:blipFill>
        <p:spPr>
          <a:xfrm>
            <a:off x="971640" y="47242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akkumulator_5n"/>
          <p:cNvPicPr/>
          <p:nvPr/>
        </p:nvPicPr>
        <p:blipFill>
          <a:blip r:embed="rId6"/>
          <a:stretch/>
        </p:blipFill>
        <p:spPr>
          <a:xfrm>
            <a:off x="2556000" y="5013360"/>
            <a:ext cx="1357200" cy="142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003435"/>
          <p:cNvPicPr/>
          <p:nvPr/>
        </p:nvPicPr>
        <p:blipFill>
          <a:blip r:embed="rId7"/>
          <a:stretch/>
        </p:blipFill>
        <p:spPr>
          <a:xfrm>
            <a:off x="3635280" y="4724280"/>
            <a:ext cx="909720" cy="154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gyogyszer2"/>
          <p:cNvPicPr/>
          <p:nvPr/>
        </p:nvPicPr>
        <p:blipFill>
          <a:blip r:embed="rId8"/>
          <a:stretch/>
        </p:blipFill>
        <p:spPr>
          <a:xfrm>
            <a:off x="4572000" y="5300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5"/>
          <p:cNvSpPr/>
          <p:nvPr/>
        </p:nvSpPr>
        <p:spPr>
          <a:xfrm>
            <a:off x="1908000" y="429264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eszélyes hulladék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5867280" y="551664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9" descr="kuka"/>
          <p:cNvPicPr/>
          <p:nvPr/>
        </p:nvPicPr>
        <p:blipFill>
          <a:blip r:embed="rId9"/>
          <a:stretch/>
        </p:blipFill>
        <p:spPr>
          <a:xfrm>
            <a:off x="5508720" y="2060640"/>
            <a:ext cx="2663640" cy="15714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6"/>
          <p:cNvSpPr/>
          <p:nvPr/>
        </p:nvSpPr>
        <p:spPr>
          <a:xfrm>
            <a:off x="7093080" y="4581360"/>
            <a:ext cx="180000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8" descr="uveg"/>
          <p:cNvPicPr/>
          <p:nvPr/>
        </p:nvPicPr>
        <p:blipFill>
          <a:blip r:embed="rId10"/>
          <a:stretch/>
        </p:blipFill>
        <p:spPr>
          <a:xfrm>
            <a:off x="500040" y="2857680"/>
            <a:ext cx="2005200" cy="1503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9"/>
          <p:cNvSpPr/>
          <p:nvPr/>
        </p:nvSpPr>
        <p:spPr>
          <a:xfrm>
            <a:off x="1928880" y="3500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Üv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66720" y="3157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ZELEKTÍV HULLADÉKGYŰJTÉS (PAPÍR, MŰANYAG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0" name="Picture 5" descr="Szelektív2"/>
          <p:cNvPicPr/>
          <p:nvPr/>
        </p:nvPicPr>
        <p:blipFill>
          <a:blip r:embed="rId1"/>
          <a:stretch/>
        </p:blipFill>
        <p:spPr>
          <a:xfrm>
            <a:off x="5292720" y="2060640"/>
            <a:ext cx="1757520" cy="234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zelektív"/>
          <p:cNvPicPr/>
          <p:nvPr/>
        </p:nvPicPr>
        <p:blipFill>
          <a:blip r:embed="rId2"/>
          <a:stretch/>
        </p:blipFill>
        <p:spPr>
          <a:xfrm>
            <a:off x="7093080" y="2060640"/>
            <a:ext cx="1873080" cy="1406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6156360" y="1628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özponti begyűj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1763640" y="1628640"/>
            <a:ext cx="3168360" cy="2520720"/>
            <a:chOff x="1763640" y="1628640"/>
            <a:chExt cx="3168360" cy="2520720"/>
          </a:xfrm>
        </p:grpSpPr>
        <p:pic>
          <p:nvPicPr>
            <p:cNvPr id="184" name="Picture 8" descr="image006"/>
            <p:cNvPicPr/>
            <p:nvPr/>
          </p:nvPicPr>
          <p:blipFill>
            <a:blip r:embed="rId3"/>
            <a:stretch/>
          </p:blipFill>
          <p:spPr>
            <a:xfrm>
              <a:off x="1853640" y="2215440"/>
              <a:ext cx="2954520" cy="19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0"/>
            <p:cNvSpPr/>
            <p:nvPr/>
          </p:nvSpPr>
          <p:spPr>
            <a:xfrm>
              <a:off x="1763640" y="1628640"/>
              <a:ext cx="31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Munkahelyi gyűjt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1908000" y="4292640"/>
            <a:ext cx="29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dminisztratív terület – Papírhullad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70040" y="2696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GYÉB VESZÉLYES HULLADÉKOK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(IRODAI MUNKÁK SORÁN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Picture 8" descr="12-44-08-248-00"/>
          <p:cNvPicPr/>
          <p:nvPr/>
        </p:nvPicPr>
        <p:blipFill>
          <a:blip r:embed="rId1"/>
          <a:stretch/>
        </p:blipFill>
        <p:spPr>
          <a:xfrm>
            <a:off x="3059280" y="2421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003435"/>
          <p:cNvPicPr/>
          <p:nvPr/>
        </p:nvPicPr>
        <p:blipFill>
          <a:blip r:embed="rId2"/>
          <a:stretch/>
        </p:blipFill>
        <p:spPr>
          <a:xfrm>
            <a:off x="1042920" y="1700280"/>
            <a:ext cx="1462320" cy="247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2543-150x150"/>
          <p:cNvPicPr/>
          <p:nvPr/>
        </p:nvPicPr>
        <p:blipFill>
          <a:blip r:embed="rId3"/>
          <a:stretch/>
        </p:blipFill>
        <p:spPr>
          <a:xfrm>
            <a:off x="6372360" y="1844640"/>
            <a:ext cx="2220840" cy="222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7"/>
          <p:cNvSpPr/>
          <p:nvPr/>
        </p:nvSpPr>
        <p:spPr>
          <a:xfrm>
            <a:off x="2987640" y="170028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Festékpatronok, Tonerek, elektronikai hulladé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971640" y="4292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le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zövegdoboz 10"/>
          <p:cNvSpPr/>
          <p:nvPr/>
        </p:nvSpPr>
        <p:spPr>
          <a:xfrm>
            <a:off x="6255000" y="4221000"/>
            <a:ext cx="25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zámítástechnika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rodai berendez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ESZÉLYES ANYAGOK JELÖLÉS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85520" y="16426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Környezetre ártal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Tűzveszél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Irrit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mar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Irritatív"/>
          <p:cNvPicPr/>
          <p:nvPr/>
        </p:nvPicPr>
        <p:blipFill>
          <a:blip r:embed="rId1"/>
          <a:stretch/>
        </p:blipFill>
        <p:spPr>
          <a:xfrm>
            <a:off x="4643280" y="1643040"/>
            <a:ext cx="17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Környezeti veszély"/>
          <p:cNvPicPr/>
          <p:nvPr/>
        </p:nvPicPr>
        <p:blipFill>
          <a:blip r:embed="rId2"/>
          <a:stretch/>
        </p:blipFill>
        <p:spPr>
          <a:xfrm>
            <a:off x="7215120" y="1500120"/>
            <a:ext cx="1695600" cy="215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Tűzveszélyes"/>
          <p:cNvPicPr/>
          <p:nvPr/>
        </p:nvPicPr>
        <p:blipFill>
          <a:blip r:embed="rId3"/>
          <a:stretch/>
        </p:blipFill>
        <p:spPr>
          <a:xfrm>
            <a:off x="6929280" y="3857760"/>
            <a:ext cx="1704960" cy="215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Maró"/>
          <p:cNvPicPr/>
          <p:nvPr/>
        </p:nvPicPr>
        <p:blipFill>
          <a:blip r:embed="rId4"/>
          <a:stretch/>
        </p:blipFill>
        <p:spPr>
          <a:xfrm>
            <a:off x="4357800" y="400068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571680" y="36432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HA LEHET HELYETTESÍTENI K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928800" y="51436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somagolása: veszélyes hulladé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12800" y="865440"/>
            <a:ext cx="7867080" cy="53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TÁJÉKOZTATÁS FONTOSSÁG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32000" y="1699920"/>
            <a:ext cx="1000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aj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66920" y="1699920"/>
            <a:ext cx="157140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://www.rokastyle.hu/kollekcio/ftp/2009_02_12_17h52m15s.jpg"/>
          <p:cNvPicPr/>
          <p:nvPr/>
        </p:nvPicPr>
        <p:blipFill>
          <a:blip r:embed="rId1"/>
          <a:srcRect l="0" t="0" r="0" b="46133"/>
          <a:stretch/>
        </p:blipFill>
        <p:spPr>
          <a:xfrm>
            <a:off x="971640" y="2349360"/>
            <a:ext cx="2411280" cy="1943280"/>
          </a:xfrm>
          <a:prstGeom prst="rect">
            <a:avLst/>
          </a:prstGeom>
          <a:ln w="0">
            <a:noFill/>
          </a:ln>
        </p:spPr>
      </p:pic>
      <p:sp>
        <p:nvSpPr>
          <p:cNvPr id="206" name="Szövegdoboz 6"/>
          <p:cNvSpPr/>
          <p:nvPr/>
        </p:nvSpPr>
        <p:spPr>
          <a:xfrm>
            <a:off x="7008480" y="17002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leví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Mellékelt kép:"/>
          <p:cNvPicPr/>
          <p:nvPr/>
        </p:nvPicPr>
        <p:blipFill>
          <a:blip r:embed="rId2"/>
          <a:stretch/>
        </p:blipFill>
        <p:spPr>
          <a:xfrm>
            <a:off x="2340000" y="4836960"/>
            <a:ext cx="2419200" cy="1887840"/>
          </a:xfrm>
          <a:prstGeom prst="rect">
            <a:avLst/>
          </a:prstGeom>
          <a:ln w="0">
            <a:noFill/>
          </a:ln>
        </p:spPr>
      </p:pic>
      <p:sp>
        <p:nvSpPr>
          <p:cNvPr id="208" name="Szövegdoboz 8"/>
          <p:cNvSpPr/>
          <p:nvPr/>
        </p:nvSpPr>
        <p:spPr>
          <a:xfrm>
            <a:off x="3126240" y="443700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ád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http://retronom.hu/files/images/K%C3%A9p(29).preview.jpg"/>
          <p:cNvPicPr/>
          <p:nvPr/>
        </p:nvPicPr>
        <p:blipFill>
          <a:blip r:embed="rId3"/>
          <a:stretch/>
        </p:blipFill>
        <p:spPr>
          <a:xfrm>
            <a:off x="6227640" y="22766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www.itbusiness.hu/data/cms103432/internet_kicsi.jpg"/>
          <p:cNvPicPr/>
          <p:nvPr/>
        </p:nvPicPr>
        <p:blipFill>
          <a:blip r:embed="rId4"/>
          <a:stretch/>
        </p:blipFill>
        <p:spPr>
          <a:xfrm>
            <a:off x="3708360" y="2349360"/>
            <a:ext cx="221472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2560" y="3715920"/>
            <a:ext cx="7705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SZÖNÖM MEGTISZTELŐ FIGYELMÜK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360" y="1916280"/>
            <a:ext cx="4165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 földet nem nagyapáinktól örököltük, hanem unokáinktól kaptuk kölcsö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01-fold"/>
          <p:cNvPicPr/>
          <p:nvPr/>
        </p:nvPicPr>
        <p:blipFill>
          <a:blip r:embed="rId1"/>
          <a:stretch/>
        </p:blipFill>
        <p:spPr>
          <a:xfrm>
            <a:off x="971640" y="292428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723240" y="538920"/>
            <a:ext cx="792396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ASSAN KÖZHELY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 NAGYON IGAZ …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0160" y="64224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KÖRNYEZETÜNK ELEME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5" descr="csillagok02"/>
          <p:cNvPicPr/>
          <p:nvPr/>
        </p:nvPicPr>
        <p:blipFill>
          <a:blip r:embed="rId1"/>
          <a:stretch/>
        </p:blipFill>
        <p:spPr>
          <a:xfrm>
            <a:off x="2411280" y="1628640"/>
            <a:ext cx="1613160" cy="2151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oss2o1"/>
          <p:cNvPicPr/>
          <p:nvPr/>
        </p:nvPicPr>
        <p:blipFill>
          <a:blip r:embed="rId2"/>
          <a:stretch/>
        </p:blipFill>
        <p:spPr>
          <a:xfrm>
            <a:off x="5364000" y="1628640"/>
            <a:ext cx="2303640" cy="149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Mikrobiológiai Olaj- és Zsírlebontá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149720"/>
            <a:ext cx="2358720" cy="164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060304felszallo_madarak"/>
          <p:cNvPicPr/>
          <p:nvPr/>
        </p:nvPicPr>
        <p:blipFill>
          <a:blip r:embed="rId5"/>
          <a:stretch/>
        </p:blipFill>
        <p:spPr>
          <a:xfrm>
            <a:off x="4284720" y="4149720"/>
            <a:ext cx="2448000" cy="1609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2"/>
          <p:cNvSpPr/>
          <p:nvPr/>
        </p:nvSpPr>
        <p:spPr>
          <a:xfrm>
            <a:off x="61128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Leveg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211640" y="38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z Élővil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21164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Tal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11280" y="3789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V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25760" y="590760"/>
            <a:ext cx="787140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ÁLLÍTHATATLAN NÖVEKED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bevolkerung"/>
          <p:cNvPicPr/>
          <p:nvPr/>
        </p:nvPicPr>
        <p:blipFill>
          <a:blip r:embed="rId1"/>
          <a:stretch/>
        </p:blipFill>
        <p:spPr>
          <a:xfrm>
            <a:off x="900000" y="2924280"/>
            <a:ext cx="285768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ao-paulo_225x160"/>
          <p:cNvPicPr/>
          <p:nvPr/>
        </p:nvPicPr>
        <p:blipFill>
          <a:blip r:embed="rId2"/>
          <a:stretch/>
        </p:blipFill>
        <p:spPr>
          <a:xfrm>
            <a:off x="2124000" y="4365720"/>
            <a:ext cx="3167280" cy="225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900000" y="1557360"/>
            <a:ext cx="3095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lapvető problé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népesedés é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sztelen növ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zövegdoboz 8"/>
          <p:cNvSpPr/>
          <p:nvPr/>
        </p:nvSpPr>
        <p:spPr>
          <a:xfrm>
            <a:off x="5580000" y="3068640"/>
            <a:ext cx="3000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Óránként ~10.000 fővel nő Földünk népessége, és ezzel az amúgy természetes fogyasztás, és hulladék termelés káros folyamatokká vá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313140_2"/>
          <p:cNvPicPr/>
          <p:nvPr/>
        </p:nvPicPr>
        <p:blipFill>
          <a:blip r:embed="rId1"/>
          <a:srcRect l="0" t="11078" r="0" b="11412"/>
          <a:stretch/>
        </p:blipFill>
        <p:spPr>
          <a:xfrm>
            <a:off x="6227640" y="3645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ater-pollution"/>
          <p:cNvPicPr/>
          <p:nvPr/>
        </p:nvPicPr>
        <p:blipFill>
          <a:blip r:embed="rId2"/>
          <a:stretch/>
        </p:blipFill>
        <p:spPr>
          <a:xfrm>
            <a:off x="1116000" y="3933720"/>
            <a:ext cx="2879640" cy="279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ÍZ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6" descr="180px-Water_pollution"/>
          <p:cNvPicPr/>
          <p:nvPr/>
        </p:nvPicPr>
        <p:blipFill>
          <a:blip r:embed="rId3"/>
          <a:stretch/>
        </p:blipFill>
        <p:spPr>
          <a:xfrm>
            <a:off x="900000" y="2205000"/>
            <a:ext cx="2016360" cy="175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cid_Mine_Drainage_Impact"/>
          <p:cNvPicPr/>
          <p:nvPr/>
        </p:nvPicPr>
        <p:blipFill>
          <a:blip r:embed="rId4"/>
          <a:stretch/>
        </p:blipFill>
        <p:spPr>
          <a:xfrm>
            <a:off x="2916360" y="220500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1"/>
          <p:cNvSpPr/>
          <p:nvPr/>
        </p:nvSpPr>
        <p:spPr>
          <a:xfrm>
            <a:off x="3995640" y="4221000"/>
            <a:ext cx="216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udapest szennyvízének közel fele ömlik tisztítatlanul a Dunáb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084720" y="2276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elszíni és felszín alatti víz szennyezése, túlzott kitermel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8"/>
          <p:cNvSpPr/>
          <p:nvPr/>
        </p:nvSpPr>
        <p:spPr>
          <a:xfrm>
            <a:off x="250920" y="1484280"/>
            <a:ext cx="86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fogyasztás, és túlzott hulladéktermelés a környezeti elemek mindegyikét éri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EVEGŐ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7" descr="traffic"/>
          <p:cNvPicPr/>
          <p:nvPr/>
        </p:nvPicPr>
        <p:blipFill>
          <a:blip r:embed="rId1"/>
          <a:stretch/>
        </p:blipFill>
        <p:spPr>
          <a:xfrm>
            <a:off x="755640" y="162864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50px-Air_"/>
          <p:cNvPicPr/>
          <p:nvPr/>
        </p:nvPicPr>
        <p:blipFill>
          <a:blip r:embed="rId2"/>
          <a:stretch/>
        </p:blipFill>
        <p:spPr>
          <a:xfrm>
            <a:off x="755640" y="4437000"/>
            <a:ext cx="3024360" cy="2013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780000" y="2997360"/>
            <a:ext cx="273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nergiaterm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image?id=96935&amp;rendTypeId=4"/>
          <p:cNvPicPr/>
          <p:nvPr/>
        </p:nvPicPr>
        <p:blipFill>
          <a:blip r:embed="rId3"/>
          <a:stretch/>
        </p:blipFill>
        <p:spPr>
          <a:xfrm>
            <a:off x="5940360" y="2637000"/>
            <a:ext cx="3024360" cy="19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ULLADÉKVÁL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5" descr="waste_pile"/>
          <p:cNvPicPr/>
          <p:nvPr/>
        </p:nvPicPr>
        <p:blipFill>
          <a:blip r:embed="rId1"/>
          <a:stretch/>
        </p:blipFill>
        <p:spPr>
          <a:xfrm>
            <a:off x="4643280" y="1916280"/>
            <a:ext cx="3238560" cy="290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20070119szemetbal2"/>
          <p:cNvPicPr/>
          <p:nvPr/>
        </p:nvPicPr>
        <p:blipFill>
          <a:blip r:embed="rId2"/>
          <a:stretch/>
        </p:blipFill>
        <p:spPr>
          <a:xfrm>
            <a:off x="928800" y="1857240"/>
            <a:ext cx="3651120" cy="2940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428760" y="4857840"/>
            <a:ext cx="442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lesleges dolgok megvásár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övid termék-életci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evés újrahasznos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2680" y="590760"/>
            <a:ext cx="784116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NERGIAIGÉN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5" descr="image042"/>
          <p:cNvPicPr/>
          <p:nvPr/>
        </p:nvPicPr>
        <p:blipFill>
          <a:blip r:embed="rId1"/>
          <a:stretch/>
        </p:blipFill>
        <p:spPr>
          <a:xfrm>
            <a:off x="642960" y="1643040"/>
            <a:ext cx="4790880" cy="36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uszakicikk"/>
          <p:cNvPicPr/>
          <p:nvPr/>
        </p:nvPicPr>
        <p:blipFill>
          <a:blip r:embed="rId2"/>
          <a:stretch/>
        </p:blipFill>
        <p:spPr>
          <a:xfrm>
            <a:off x="5580000" y="1916280"/>
            <a:ext cx="2951280" cy="1769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5435640" y="3860640"/>
            <a:ext cx="35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éges mennyiségű fosszilis energiafor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49080" y="658440"/>
            <a:ext cx="80946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A FENNTARTHATÓ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Picture 4" descr="d3"/>
          <p:cNvPicPr/>
          <p:nvPr/>
        </p:nvPicPr>
        <p:blipFill>
          <a:blip r:embed="rId1"/>
          <a:stretch/>
        </p:blipFill>
        <p:spPr>
          <a:xfrm>
            <a:off x="714240" y="2500200"/>
            <a:ext cx="3168720" cy="271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1b"/>
          <p:cNvPicPr/>
          <p:nvPr/>
        </p:nvPicPr>
        <p:blipFill>
          <a:blip r:embed="rId2"/>
          <a:stretch/>
        </p:blipFill>
        <p:spPr>
          <a:xfrm>
            <a:off x="4932360" y="242100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57160" y="18572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ssz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214960" y="17859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ó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8:46:26Z</dcterms:created>
  <dc:creator>Gizella</dc:creator>
  <dc:description/>
  <dc:language>en-US</dc:language>
  <cp:lastModifiedBy>Gizella</cp:lastModifiedBy>
  <dcterms:modified xsi:type="dcterms:W3CDTF">2010-08-23T07:41:14Z</dcterms:modified>
  <cp:revision>57</cp:revision>
  <dc:subject/>
  <dc:title>ÚJ INFORMÁCIÓ-BIZTONSÁGI IRÁNYÍTÁSI RENDSZERSZABVÁNY</dc:title>
</cp:coreProperties>
</file>