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CDE-45E8-4A70-81FB-C8317976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531-3581-400A-A7EA-B349475E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E3F-E976-46BC-B5FF-A24A4AB1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745-E921-4493-88D9-E6878307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0A16-959C-4E61-BFEB-ED11B8FD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85BC-4E88-412C-83BC-376BDB7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EF77-5A5B-4443-95E2-47C55C19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2902-CA17-4511-987E-07EC5C5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E2D0-97FF-4241-A011-7FADDF80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CE22-7A30-4539-8C3B-8DE88EF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1BC5-0ED7-4C9D-9C4C-9CE62DB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B1D-F158-4D07-B21E-F7073664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01F9-3A67-40AB-9AA0-8FA9D95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6FF0-7411-4F01-B83A-E85CD9E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9F0-B576-4609-AD9E-EDCFDC13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E9AC-4B3A-45BC-BC2D-2DC8BB4F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5CE-44AE-410C-81C5-02CE25E1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F54-0687-4531-A0A4-B04CB7E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9B2-7CA0-4653-AF01-CE79B57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48C-AC05-4339-99C4-E7A5AF4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7BB-9FA6-4BDD-8A72-FC35C7E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50F-9E7E-4C3C-B8DB-4E175A5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DF4-A5B4-4B33-8EE4-25D26742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9F4-E258-4895-9D5A-EEA8140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8CC6-2B00-47B6-81B3-70AAAAA0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0754-8464-4CB1-8CDF-4FA160622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ZENTÁCIÓ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F (Közös Értékelési Keretrendszer) KUTATÁS EREDMÉNYEIR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A MUNKATÁRSAKKAL KAPCSOLATOS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saját elégedettségüket (vagy elégedetlenségüket) megalapozó eredményeket vizsgált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9, mely a Tervezés – Megvalósítás – Ellenőrzés – Beavatkozás rendszerében a Megvalósítás szakaszára tehető. A mért eredmények stagnálnak, és/vagy néhány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897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. TÁRSADALMI KÖRNYEZETRE GYAKOROLT HATÁSOK EREDMÉNY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t el a társadalmi környezet elvárásaival összhangban (az élet minőségére gyakorolt hatás, a környezet és az erőforrások megőrzése, a szervezet saját hatékonysága, stb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 kritérium átlaga 56, mely a Tervezés – Megvalósítás – Ellenőrzés – Beavatkozás rendszerében az Ellenőrzés szakaszára tehető. A mért eredmények javuló tendenciát mutatnak, és/vagy a legtöbb kitűzött cél teljesül. A 8.2. akritérium eredmény (63 pont) kimondottan magasnak számí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113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ALAPVETŐ TELJESÍTMÉNY CÉLOKKAL KAPCSOLATOS ERED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 el feladatai és célkitűzései tükrében, továbbá mennyire elégedettek a Hivatal eredményes működésében érdekelt szervek és személy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789360"/>
            <a:ext cx="370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5, mely a Tervezés – Megvalósítás – Ellenőrzés – Beavatkozás rendszerében az Ellenőrzés szakaszára tehető. A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5040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400720" cy="2530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211640" y="4317840"/>
            <a:ext cx="481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040360" cy="2490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11640" y="4297320"/>
            <a:ext cx="47545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2062080"/>
            <a:ext cx="49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610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ŐZ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őző kutatás – 2005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rvezetfeljesztés – teljesítményértékelés – C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önértékelés résztvevőinek ki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tatás a kutatásban résztvevők számá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2010.02.2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F kérdőív kitöl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ÉRDŐÍVEK FELDOLG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7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tlag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ok számtani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zórás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számok eltérése az átlag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alacsony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x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magas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Értékelhető válaszok száma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32 kitöltő munkatárs közül azok, akik konkrét, számszerűsíthető pontszámmal értékelték az adott alkritériumot (a 0, a kitöltetlen rubrika, az intervallum megadása nem értékelhetőnek minősü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0800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eldolgozás számszerűsíthető eredménye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VEZE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vezetők miként határozzák meg, fejlesztik a közigazgatási szerv küldetését és arculatát, hogyan fejlesztik ki a hosszú távú sikerhez szükséges értékeket és biztosítják azok érvényesülésé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895640" cy="28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3573360"/>
            <a:ext cx="3706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kritérium átlaga 38, mely a Tervezés – Megvalósítás – Ellenőrzés – Beavatkozás rendszerében a Megvalósítás szakaszára tehető. Tehát a vezetés megalkotja a megfelelő intézkedésekre vonatkozó terveket, dokumentumokat, az intézkedések végrehajtásra kerülnek, de a felülvizsgálat, hogy a megfelelő intézkedésekre került-e sor – részben elma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STRATÉGIA ÉS TERVE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hajtja végre küldetését és valósítja meg jövőképét az érdekeltekre összpontosító stratégia útján, a releváns politikák, tervek, célkitűzések és célok segítségé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645000"/>
            <a:ext cx="3706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PDCA ciklus értékelési kritériumait tekintve a Megvalósítás szakaszra esik. A kapott eredmény azt mutatja, hogy a hivatal rendelkezik a megfelelő intézkedésekre vonatkozó tervekkel, dokumentumokkal, az intézkedés is végrehajtásra kerül, de a szükséges ellenőrzés már nem történik m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5040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EMBERI ERŐFORRÁS-GAZDÁLKO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irányítja, fejleszti és aknázza ki a munkatársak tudását egyéni, csoport és szervezeti szinten egyaránt, valamint saját politikájának megvalósítása és a munkatársak hatékony munkavégzésének megvalósítása céljából hogyan szervezi a rendelkezésére álló erőforrá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573360"/>
            <a:ext cx="3706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Tervezés – Megvalósítás – Ellenőrzés – Beavatkozás rendszerében a Megvalósítás szakaszára tehető. A hivatal HR gazdálkodásában jellemző, hogy rendelkezik a megfelelő intézkedésekre vonatkozó tervekkel, dokumentumokkal, a szükséges intézkedések is végrehajtásra kerülnek. Az ellenőrzés folyamata viszont nem történik meg, nem vizsgálják felül, hogy vajon a megfelelő lépéseket teszi-e a hivatal az elvárt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5113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EGYÜTTMŰKÖDÉS ÉS ERŐFORR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tervezi és kezeli kapcsolatait és belső erőforrásait politikája és stratégiája támogatására, valamint folyamatainak hatékony működtetése céljáb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9, mely a Tervezés – Megvalósítás – Ellenőrzés – Beavatkozás rendszerében a Megvalósítás szakaszára tehető. A hivatal rendelkezik a megfelelő intézkedésekre vonatkozó tervekkel, dokumentumokkal, a szükséges intézkedések végrehajtásra kerülnek, viszont az ellenőrzés folyamata hiányzi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041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FOLYAMAT- ÉS VÁLTOZÁS-MENEDZ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saját politikáját, stratégiáját, valamint az ügyfelek / állampolgárok elégedettségét szolgálva hogyan kezeli, szervezi és fejleszti saját folyamat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393372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3, mely a PDCA ciklusban a Megvalósítás szakaszára tehető, tehát a hivatal elkészít dokumentumokat, az döntéseket hoz, de az ellenőrzésre nem fordítanak kellő figyelmet, így a nem lehet tudni, hogy a megfelelő dolgokat teszik-e a megfelelő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5040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ÜGYFÉLKÖZPONTÚ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 Hivatal által tett intézkedések eredményességét értékelték az ügyfélvisszajelzések alapj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7, mely a PDCA ciklus rendszerében az Ellenőrzés szakaszára tehető. A válaszok alapján az eddig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11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10:13:41Z</dcterms:modified>
  <cp:revision>94</cp:revision>
  <dc:subject/>
  <dc:title>A KÖZPONTI TEAM FELADATAI</dc:title>
</cp:coreProperties>
</file>